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1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4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3-23T22:15:25.192000000" idx="1">
    <p:pos x="3921" y="2468"/>
    <p:text/>
  </p:cm>
</p:cmLst>
</file>

<file path=ppt/comments/comment11.xml><?xml version="1.0" encoding="utf-8"?>
<p:cmLst xmlns:p="http://schemas.openxmlformats.org/presentationml/2006/main">
  <p:cm authorId="0" dt="2011-03-23T22:15:32.462000000" idx="4">
    <p:pos x="3886" y="4026"/>
    <p:text/>
  </p:cm>
</p:cmLst>
</file>

<file path=ppt/comments/comment2.xml><?xml version="1.0" encoding="utf-8"?>
<p:cmLst xmlns:p="http://schemas.openxmlformats.org/presentationml/2006/main">
  <p:cm authorId="0" dt="2011-03-23T22:15:25.192000000" idx="2">
    <p:pos x="3921" y="2468"/>
    <p:text/>
  </p:cm>
</p:cmLst>
</file>

<file path=ppt/comments/comment3.xml><?xml version="1.0" encoding="utf-8"?>
<p:cmLst xmlns:p="http://schemas.openxmlformats.org/presentationml/2006/main">
  <p:cm authorId="0" dt="2011-03-23T22:15:20.832000000" idx="3">
    <p:pos x="5760" y="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6871-1EC7-46E7-BAF6-2435937C7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DE11-867E-4356-9905-E3AFF8FE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AACA-0B85-49B9-9CE3-7C93542C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5E1E-9FBC-4F9B-8A11-406C2EBB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7938-B55E-48B8-B6CE-89027EC8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1E43-5865-42B9-90ED-5762E964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F88-7DC5-40DE-B130-C397E96A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CADB-5D3B-4818-9AB3-6CB08DC3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0E8A-6844-4AD4-9158-0B4F335B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A128-F6AC-4986-9D05-5A0706F4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CB4-3B74-470F-A4FC-620E8D9E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753D-2D1C-493B-9784-5A5BC458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6817-C579-458F-80D5-BC6BD5E31F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528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垃圾的处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528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垃圾焚烧的优点：占地小，避免了垃圾污染地下水，产生的热量还可以用来发电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焚烧的方法也存在着一些问题，不仅会消耗大量电能、留下残余物，如果控制不好，还会产生有毒物质，造成二次污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>
            <a:hlinkClick r:id="rId2" action="ppaction://hlinksldjump"/>
          </p:cNvPr>
          <p:cNvSpPr/>
          <p:nvPr/>
        </p:nvSpPr>
        <p:spPr>
          <a:xfrm>
            <a:off x="7956720" y="6237360"/>
            <a:ext cx="792000" cy="5032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907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垃圾的处理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垃圾处理有两种方法：填埋和焚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垃圾填埋模拟实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垃圾焚烧的优缺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57200" y="228600"/>
          <a:ext cx="8686800" cy="6629400"/>
        </p:xfrm>
        <a:graphic>
          <a:graphicData uri="http://schemas.openxmlformats.org/drawingml/2006/table">
            <a:tbl>
              <a:tblPr/>
              <a:tblGrid>
                <a:gridCol w="1303200"/>
                <a:gridCol w="3837240"/>
                <a:gridCol w="354636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20"/>
          <p:cNvSpPr/>
          <p:nvPr/>
        </p:nvSpPr>
        <p:spPr>
          <a:xfrm>
            <a:off x="6172200" y="3808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焚烧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1"/>
          <p:cNvSpPr/>
          <p:nvPr/>
        </p:nvSpPr>
        <p:spPr>
          <a:xfrm>
            <a:off x="2209680" y="380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洁填埋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1828800" y="12193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3"/>
          <p:cNvSpPr/>
          <p:nvPr/>
        </p:nvSpPr>
        <p:spPr>
          <a:xfrm>
            <a:off x="4495680" y="44956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2514600" y="12193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1828800" y="1295280"/>
            <a:ext cx="35053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效的减少垃圾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地下水、土壤及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气的污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6"/>
          <p:cNvSpPr/>
          <p:nvPr/>
        </p:nvSpPr>
        <p:spPr>
          <a:xfrm>
            <a:off x="1752480" y="3886200"/>
            <a:ext cx="4343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能根除对环境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污染，同时造成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永久性地占用大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土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7"/>
          <p:cNvSpPr/>
          <p:nvPr/>
        </p:nvSpPr>
        <p:spPr>
          <a:xfrm>
            <a:off x="5638680" y="1295280"/>
            <a:ext cx="35053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占地小 ，避免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圾污染地下水，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的热量用来发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5867280" y="4572000"/>
            <a:ext cx="327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周围的空气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污染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判断：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很久以来，人们使用在地上挖坑填埋的办法处理垃圾。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填埋垃圾的方法是最安全有效的。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垃圾填埋场填满垃圾后，可以在上面修建公园、体育场。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填埋垃圾以后，可以在上面建筑房屋。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焚烧垃圾不会造成污染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说说在垃圾填埋模拟实验中，各部分代表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528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垃圾的露天堆放，会造成什么影响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图片1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xin_203090410085103101391"/>
          <p:cNvPicPr/>
          <p:nvPr/>
        </p:nvPicPr>
        <p:blipFill>
          <a:blip r:embed="rId2"/>
          <a:stretch/>
        </p:blipFill>
        <p:spPr>
          <a:xfrm>
            <a:off x="0" y="404640"/>
            <a:ext cx="89647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2005322213145276"/>
          <p:cNvPicPr/>
          <p:nvPr/>
        </p:nvPicPr>
        <p:blipFill>
          <a:blip r:embed="rId3"/>
          <a:stretch/>
        </p:blipFill>
        <p:spPr>
          <a:xfrm>
            <a:off x="0" y="47628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a55bcfeabc"/>
          <p:cNvPicPr/>
          <p:nvPr/>
        </p:nvPicPr>
        <p:blipFill>
          <a:blip r:embed="rId4"/>
          <a:stretch/>
        </p:blipFill>
        <p:spPr>
          <a:xfrm>
            <a:off x="0" y="549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20070822180011"/>
          <p:cNvPicPr/>
          <p:nvPr/>
        </p:nvPicPr>
        <p:blipFill>
          <a:blip r:embed="rId5"/>
          <a:stretch/>
        </p:blipFill>
        <p:spPr>
          <a:xfrm>
            <a:off x="0" y="404640"/>
            <a:ext cx="9144000" cy="6985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200561310914"/>
          <p:cNvPicPr/>
          <p:nvPr/>
        </p:nvPicPr>
        <p:blipFill>
          <a:blip r:embed="rId6"/>
          <a:stretch/>
        </p:blipFill>
        <p:spPr>
          <a:xfrm>
            <a:off x="0" y="0"/>
            <a:ext cx="9144000" cy="73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528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填埋垃圾模拟实验：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方法：在广口瓶中放入淘洗干净的细石子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厘米厚，然后加入清水，使水刚好位于石子的一半。用镊子往瓶中靠瓶壁处放入几团浸过墨水的纸巾，用细石子埋住，再慢慢地往上面喷水。观察瓶子底部水的颜色和清澈度的变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IMG0157A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68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4"/>
          <p:cNvSpPr/>
          <p:nvPr/>
        </p:nvSpPr>
        <p:spPr>
          <a:xfrm>
            <a:off x="6227640" y="1484280"/>
            <a:ext cx="1657440" cy="1440000"/>
          </a:xfrm>
          <a:prstGeom prst="wedgeRoundRectCallout">
            <a:avLst>
              <a:gd name="adj1" fmla="val -155458"/>
              <a:gd name="adj2" fmla="val 3754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喷洒出的水代表雨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300720" y="3933720"/>
            <a:ext cx="2087640" cy="1295640"/>
          </a:xfrm>
          <a:prstGeom prst="wedgeRoundRectCallout">
            <a:avLst>
              <a:gd name="adj1" fmla="val -112435"/>
              <a:gd name="adj2" fmla="val 952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底部清澈的水代表地下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5651640" y="2924280"/>
            <a:ext cx="2592360" cy="936360"/>
          </a:xfrm>
          <a:prstGeom prst="wedgeRoundRectCallout">
            <a:avLst>
              <a:gd name="adj1" fmla="val -78537"/>
              <a:gd name="adj2" fmla="val 19982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被污染的纸巾代表垃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611280" y="1413000"/>
            <a:ext cx="863640" cy="3457440"/>
          </a:xfrm>
          <a:prstGeom prst="wedgeRoundRectCallout">
            <a:avLst>
              <a:gd name="adj1" fmla="val 234740"/>
              <a:gd name="adj2" fmla="val 5959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石子代表土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1332000" y="549360"/>
            <a:ext cx="3311280" cy="934920"/>
          </a:xfrm>
          <a:prstGeom prst="wedgeRoundRectCallout">
            <a:avLst>
              <a:gd name="adj1" fmla="val -32023"/>
              <a:gd name="adj2" fmla="val 22725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玻璃瓶代表垃圾填埋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5796000" y="5373720"/>
            <a:ext cx="2735280" cy="863640"/>
          </a:xfrm>
          <a:prstGeom prst="wedgeRoundRectCallout">
            <a:avLst>
              <a:gd name="adj1" fmla="val -98986"/>
              <a:gd name="adj2" fmla="val 3823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墨水扩散代表污染扩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0">
            <a:hlinkClick r:id="rId3" action="ppaction://hlinksldjump"/>
          </p:cNvPr>
          <p:cNvSpPr/>
          <p:nvPr/>
        </p:nvSpPr>
        <p:spPr>
          <a:xfrm>
            <a:off x="8461440" y="6308640"/>
            <a:ext cx="431640" cy="5050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4191120"/>
            <a:ext cx="8991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垃圾场用不透水的衬垫把“垃圾屋”与周围的土壤隔绝开来，建立垃圾过滤液收集池和处理池。能把从地面渗入垃圾屋并被垃圾污染的水，收集起来处理；垃圾堆发酵会产生大量气体包括可燃性气体和有毒气体，垃圾场安装有气体排放管及时排除有危害的气体，还有检测井随时检测垃圾填埋场附近的土壤和地下水状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未命名1"/>
          <p:cNvPicPr/>
          <p:nvPr/>
        </p:nvPicPr>
        <p:blipFill>
          <a:blip r:embed="rId1"/>
          <a:stretch/>
        </p:blipFill>
        <p:spPr>
          <a:xfrm>
            <a:off x="1752480" y="0"/>
            <a:ext cx="5334120" cy="42116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"/>
          <p:cNvSpPr/>
          <p:nvPr/>
        </p:nvSpPr>
        <p:spPr>
          <a:xfrm>
            <a:off x="468360" y="0"/>
            <a:ext cx="115092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新型垃圾填埋场示意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528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填埋场在填满垃圾以后，可以在上面修建公园、体育场，但是不能用来建筑房屋和种植庄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528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垃圾处理的第二种方法：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垃圾焚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IMG0161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IMG0160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03:04:53Z</dcterms:created>
  <dc:creator>新课标第一网xkb1.com; 微软用户</dc:creator>
  <dc:description>新课标第一网xkb1.com</dc:description>
  <cp:keywords>新课标第一网xkb1.com</cp:keywords>
  <dc:language>en-US</dc:language>
  <cp:lastModifiedBy>Administrator</cp:lastModifiedBy>
  <cp:lastPrinted>1899-12-30T00:00:00Z</cp:lastPrinted>
  <dcterms:modified xsi:type="dcterms:W3CDTF">2016-03-12T03:49:47Z</dcterms:modified>
  <cp:revision>13</cp:revision>
  <dc:subject/>
  <dc:title>垃圾的露天堆放，会造成什么影响？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11</vt:lpwstr>
  </property>
</Properties>
</file>