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9DD-BDDC-4DEA-86F3-F65B9F58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07E-2BE6-4A95-9F65-B5289D4E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0B6-6699-49D0-9ABB-E856A547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887-B5A5-4B37-AB43-1C233CFC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CCE-D991-4414-9E9C-3E1F0BDB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01D-FEC9-461A-A350-B33ADC57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355-5B40-4DF0-BAA8-03F224E9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FBF-E970-4E31-A90C-B8E6C6B7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31D-D733-4FC9-AB22-593E5461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06A-9D5F-4A4B-A035-F7252DF5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AC9-196C-4F89-A74A-1DD8879F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1F7-30D7-4AAF-8BDC-9E92F84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ED7B-E58A-4522-8888-29AE27939E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29.xml"/><Relationship Id="rId11" Type="http://schemas.openxmlformats.org/officeDocument/2006/relationships/slide" Target="slide32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8.xml"/><Relationship Id="rId16" Type="http://schemas.openxmlformats.org/officeDocument/2006/relationships/slide" Target="slide42.xml"/><Relationship Id="rId17" Type="http://schemas.openxmlformats.org/officeDocument/2006/relationships/slide" Target="slide42.xml"/><Relationship Id="rId18" Type="http://schemas.openxmlformats.org/officeDocument/2006/relationships/slide" Target="slide42.xml"/><Relationship Id="rId19" Type="http://schemas.openxmlformats.org/officeDocument/2006/relationships/slide" Target="slide42.xml"/><Relationship Id="rId20" Type="http://schemas.openxmlformats.org/officeDocument/2006/relationships/slide" Target="slide42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 DeCompiler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is2er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Welcome to see the presentation ppt, this document will take you to a simple instruction.Remember, this software is efficient and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he software from the 2008 R &amp; D, After four years of updates and improv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his document is updated in 2012.03.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524720" cy="5248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3040" y="5335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2: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5227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5040" y="341280"/>
            <a:ext cx="862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3: Open your Standard Online PB DeCompiler(or called PB DeCo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It will log on the server authentication, and access to important operat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31920" y="99072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63120" cy="5270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1360" y="417600"/>
            <a:ext cx="83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3.2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Three servers, the authentication processing, Necessary redund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8240" y="9144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5180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5040" y="34128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3.3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Check the response from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5087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9080" y="341280"/>
            <a:ext cx="51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Step3.4 Passed the certification, we ca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381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4840" y="264960"/>
            <a:ext cx="83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4.1 Choose Main-menu: File(F),SubitemMenu: first item menu To loa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ject from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Executable file. Other subsidiary files have been loa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41400" y="6858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5362560" cy="3971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97960" y="41760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4.2 Select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The main executabl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180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9080" y="34128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Step4.3 In accordance with the the inheritance and reference relations of objects, analyzed one by one, and decomp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8240" y="76212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133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0080" y="34128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4.4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Completion of the analysi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133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6920" y="380880"/>
            <a:ext cx="89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4.5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You can expand the file, on signature +, See codes and other details of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84200" y="8380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xport DW-synta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pen PB DeCompiler to Lo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Ope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Generate pbw and p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Export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PB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Export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r(source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Open new Project in 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ptimize each one P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Compile One of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PBLs(Build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Runtime Libr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See Source and interface of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See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ources&amp;Images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in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sr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fol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Code and Event Corresponding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1"/>
          <a:stretch/>
        </p:blipFill>
        <p:spPr>
          <a:xfrm>
            <a:off x="3276720" y="533520"/>
            <a:ext cx="1514520" cy="2667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10480" cy="538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5680" y="26496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5.1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Generate pbw and pbt, they make all of the PBLs in a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60520" y="6094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6076800" cy="478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3520" y="2649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5.1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180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3520" y="2649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5.1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5305320" cy="1123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4480" y="36360"/>
            <a:ext cx="88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5.2 Check-On the menu-option for written dw-syntax into PBL with others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6840" y="10666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524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0400" y="228600"/>
            <a:ext cx="61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5.3 Export PBLs.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It is also the most important asp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133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1120" y="2286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5.3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477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3280" y="228600"/>
            <a:ext cx="64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5.4 Export Sr,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Is not required, can be used when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Important, the picture is also derived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076800" cy="4781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1120" y="2286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5.4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5316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1120" y="2286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5.4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5476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3640" y="304920"/>
            <a:ext cx="78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1 In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b, open your new project, On the menu: File-&gt;open 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60520" y="76212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57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nese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81080" y="1123920"/>
            <a:ext cx="87818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200480" cy="2428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1120" y="3049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1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63120" cy="5240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120" y="3049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1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429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2560" y="304920"/>
            <a:ext cx="33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2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Optimize each one p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429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32920" y="304920"/>
            <a:ext cx="58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3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In DataBase painter, Build and connect to a D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Can be the original or any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381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4720" y="3049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4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Compile any PBL file. full compile mode. On Right-Button-Me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Build Runtime Lib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60520" y="76212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762360" cy="2352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31120" y="3049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4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10480" cy="5381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1120" y="3049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4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195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1120" y="3049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4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5105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2920" y="304920"/>
            <a:ext cx="50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5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Expand pbl file, look at the object co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Code and event corresponding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Exported PBL, when double-click to open an object, some code will appear in the other events.</a:t>
            </a:r>
            <a:br>
              <a:rPr sz="3200"/>
            </a:b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Before you make any changes, close the object, right click on the object name -&gt; Source Edit. find any blank lines in the source, position the cursor on a blank line, and hit a spacebar. Saved. This problem can be corr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22860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1: Copy your files from Applicaton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Installation path WITHOUT RUNTIME D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nd Copy to new folder. Eg. On desk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153280" cy="575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9120" y="4716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5195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1120" y="3049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5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5286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31120" y="3049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6.5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534520" cy="5133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1120" y="30492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7.1 See Source. (sr fi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226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31120" y="3049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7.1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4800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32560" y="304920"/>
            <a:ext cx="40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7.2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Pictures are also in this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3640" y="5638680"/>
            <a:ext cx="86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f create List of Pictures, u can open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Dos CommandLine window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 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d your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ir/b &gt;abc.p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 in DeCompiler,selected a PBD, Menu&gt;File&gt;List name of Object in  File(For PB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hank you, have any need please contact me.</a:t>
            </a:r>
            <a:br>
              <a:rPr sz="3200"/>
            </a:b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ow to contact, please see the contact information of the softwar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Catalo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6160" y="380880"/>
            <a:ext cx="770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2: Open PB DeCompiler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Subdirectory: RecoveryDW,Double-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coverydw_v**.exe,and Load all of your pbds.if Lower than PB9,you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hoose single file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multiple times.It will Export dw-syntax to a defaul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Same with PBD’s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153120" cy="4048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4200" y="7632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200480" cy="2428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7080" y="685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2: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8172360" cy="5610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3040" y="457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2: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5800680" cy="115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7080" y="685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2: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524720" cy="5248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3040" y="5335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p2: 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68360" y="341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alog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tpDown</cp:lastModifiedBy>
  <dcterms:modified xsi:type="dcterms:W3CDTF">2013-04-11T05:37:00Z</dcterms:modified>
  <cp:revision>2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