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C9C-DA26-4E9F-9922-55DA1657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1E4-9FCE-4956-A2DD-E76933E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A5866-2EA2-4335-97FC-0A266A23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4150-E14D-4D5C-92E7-E48F0B4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4E8B-E84E-43AA-B786-FD7EDFF0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07A06-B552-465F-A22F-E15A860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1BC09-0E49-4093-8F55-A43915D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5E1FA-3FE3-4709-A1D2-436525D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55745-4292-4059-B577-557944EB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5CC32-AEEE-4F8D-992C-52ECF007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BDCBA-90FC-41A4-BD5C-969FD1DF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63F46-4C98-4B79-AE3E-8D13C73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B2D-9D9A-4F7C-ABB9-075D7F54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99C70-D40B-4504-9108-B56890E4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BB3D4-90F5-47B7-BDEE-DCE13F5E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21BA7-55E6-4B3D-A8EF-F0A8406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D6E59-A629-477C-B51F-231F830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4AF3-5E3D-4095-86AF-16DA60F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BB9D2-49E3-45C9-AF45-D242BE9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35171-19A1-468F-B868-C760B5E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3366C-3F75-436C-AF57-6FD33B0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5118A-7F8D-4519-B8C9-FE4B210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ECF72-D41F-4997-A74D-A2F13A5B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2DD-C8D2-4978-9288-5FC52133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860E9-4B54-4781-A1A2-BF920F8C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2AE8E-8A42-42D8-BCAA-09C9D094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C789F-0C3C-48C5-AEEF-A0C6E5D3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FC59-518E-4567-B9A2-73D30FC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8C5CB-BAA4-4286-BD22-118A4446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035F-29D0-4A1E-805A-BB91D20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FD68E-4DA0-4D14-BC4A-1C0AC454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8ACBF-CF64-46E6-860A-DF87B29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69F44-034A-42AC-AA21-4F9395BC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5F0F-C650-4B7B-98A9-ABD08BB6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E976-402E-4951-BA4B-012E4FB5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0C085-B922-48B9-BE94-8DC0956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CC88B-7EF8-4D55-A4CD-F23628AE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647D0-9124-4EAF-B861-49607073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4B5F4-9AA9-4360-96B9-1537D267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ADC57-ED4B-4E0A-8563-96E53FF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4368-487E-40F5-9C68-308E05A8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240B6-F62E-49A8-B11F-A42A5A4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D2711-0224-4D48-9289-B28CCAF0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A042D-CB42-45EF-9822-4510950B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DA443-0238-4948-85AA-F1E63DF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75AE-DD57-41D1-A942-7689E97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36D04-6AF7-4E97-B3DB-D1A07F6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91451-9A35-4DE3-8DBC-A2FDB9D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24AE6-20AE-4E48-A8A7-553517DA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10E42-1BF7-4343-8C43-FC9DE439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55520-DE81-4945-B576-7099D9D5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68A-3DCA-474A-B0E1-DE70765F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1FED-5B04-4D0F-9F39-0666EAF4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636D-ABEC-49EB-B4BD-F3B3812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6CC5-9D02-4BDA-B8CB-25E709E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A409-28E6-4A1A-9151-04960A5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FD1-922A-48B8-849D-4F5621E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F061-C31E-44CE-88A4-C21BF72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115E-C597-41A3-A8A2-1E1B9850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1C09-9692-4A32-AF7D-231045A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3D4F-5DCC-4F3B-901A-41F583A5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170F-C109-491F-A709-FEA3DB8C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3A4D-CBFD-433B-A647-176A1D13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A836-AE5D-40E1-B3AF-1CD0DDF3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5CF5-287A-4925-B665-1A858BA1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B15A-C55C-4A9A-B30E-4D2C40DA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BC25-D03E-466E-9FF1-74F791C7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B10-9EB0-4BB4-A2E2-75B9A94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BD53-4FE2-4850-B5C6-727FBA1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3921-C6C3-4932-88B4-7FE1306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6F8C-759A-4AB7-805F-47BE21A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31E6-D49C-4520-8ECD-E6A78E4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BF51-9542-40D0-9420-050F699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F3D4-9BA4-429A-9ED7-E8F25191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81B5-30D2-420F-8040-426456C0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FF81-D1FB-45AA-8483-13D4F32E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A718-DB6D-4C17-9C1D-688C5D1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FC21-C7ED-447B-9D55-EE3549C9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29C-2E17-4F49-8B85-38AF6540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6D98-199C-483C-ADA3-86B30147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1F75-596F-4963-A118-606A3CE1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366E-6C25-4DCD-BFD7-3F109EB2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A8CF-D9DB-4C05-8E60-6308D29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2483-79BD-43F7-B150-631D125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77B6-5217-44E6-89AD-CE6C0D9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C4F6-9E25-4A51-B6F7-A731AD61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0566-A1C4-44A6-B5B8-C6B74E81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F0C5-F68B-494F-8FEE-A928499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BC901-6EB1-461B-B7C5-783F0F58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6B6-622E-4B90-B2D3-7D5F9DB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065C-D5CD-4430-962B-9E2F7A09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4ACF-B845-4456-AA40-08BBC18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CC05F-89FD-4770-AAC4-D0DA480C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1377-991A-4B16-A5C5-F599A42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C5965-1877-4960-B5FF-53CB274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DFD8-7645-47B0-9998-CE1B228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586A-270D-4BC4-9821-192B4F4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7C83-39BD-4EF5-9E8C-57DAE00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395A-3953-4950-B86B-35ACE9D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D840-BEA8-4EBC-A55A-2A3728C3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0C7-66DC-44F6-AEF4-C1757745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6DBB-A286-4FDA-B5C0-6C2F2C8C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55AB3-A6B6-4893-93C9-4343485E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6063-4044-4CA1-9609-63927E0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3F450-76DB-418E-9600-9210F9FF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83A5-E560-43BF-BFFF-B424B46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3917-8D0B-4C1D-A0ED-39814D66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01B6-CC02-4220-9BEB-C09AC33E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20CE-A88D-4188-A8AF-745C967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52149-8DC9-46AA-8A67-ED38E84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E9CF-E369-44CD-9D51-7B85082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514-9AE5-493A-B6BA-4DFF21CC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68AA-1FDD-4DCD-B003-C136E6CE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E55F-09C0-4815-9362-4BD9C8D3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244A-E297-4408-837D-863CE433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D816-E9BF-4085-B7F5-D7209470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D651-BEE1-4254-859C-49985263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7CF8-A016-4D08-8416-38BF7F8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109E-1439-44F4-8D76-87076F8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C87F0-B547-459B-839D-648725F4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3ED0-FBA6-4087-B5E8-5036425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FBFE-7FDC-49B7-AF8C-E0F94B7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8AF-6BE2-47DC-8992-6CBF02A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10A8-444B-4C7D-9846-E449BAA4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CBA65-092A-4BB9-A591-2ECD6A33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C591-1BEA-445E-8F6A-3C100CD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F0CB8-DD64-4CF7-BE36-1E414918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4FFA-FEBD-4292-9BB6-62279083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5D56-49DA-4410-9100-F3E08F9D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4752-42A5-4A3F-9ECB-435CD00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5914D-4D6E-40F1-8885-E96EE82F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1C291-86E5-4A04-9AF3-E2417BB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96D5-89A6-4F31-99DF-FC244CAD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142-3A8A-4098-A5EA-982B5F71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ACD0-F8E3-4B1A-9715-D9322D0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985F5-A986-4E5C-AA1F-E1C9D46E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70222-D178-42D5-A1D9-A48A212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8E21A-2696-4B6B-9226-EBD40E5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3120-1128-4FCE-8935-90685D9A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7C2C9-74F8-4518-B52A-6699AF55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1AA3A-F691-4BEF-A15C-E292C041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02222-CC71-4446-BF7C-3D4E43EA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D478-2FBB-4127-9A60-8340E81A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311E-D7B7-4545-B9F9-D57D187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664-ABC1-4FFC-B660-775259DB20F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直角三角形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直接连接符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燕尾形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燕尾形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FE84-4A60-4F0C-98C2-5F82C4ED5110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2561-5B19-4799-A786-4CE2073241A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990-E629-4B2B-A242-85145023B0C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任意多边形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直接连接符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2FD6-3E4D-441D-B7A4-423A7F664D18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0CFB-EA93-43FE-B730-A24BA963D54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燕尾形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02C9-4A86-4E59-A2AC-99DACB5F478A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320-FC9E-4B8A-90DB-244B6C762E70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A16-FA37-4EE7-9008-7D7AF680FF6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A33-BC94-4C0C-96D8-7E09112F5063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13B9-9198-443B-B521-BC8208058CC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D53-7311-4F82-9760-8821790726E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标题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280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标题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D:\Documents\Tencent Files\360166232\Image\Group\%]D((KXHWQ0T)KWE[@$$T[D.png"/>
          <p:cNvPicPr/>
          <p:nvPr/>
        </p:nvPicPr>
        <p:blipFill>
          <a:blip r:embed="rId2"/>
          <a:stretch/>
        </p:blipFill>
        <p:spPr>
          <a:xfrm>
            <a:off x="2765520" y="1484280"/>
            <a:ext cx="3390840" cy="33195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971640" y="501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长扫描并关注微信公众号“宇客云家校”；根据自己孩子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全国学籍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姓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绑定，即可通过微信直接查询到相关的成绩、作业、以及学校通知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标题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D:\快盘\宇客云\EaseOk\手机网站素材\帐号绑定.jpg"/>
          <p:cNvPicPr/>
          <p:nvPr/>
        </p:nvPicPr>
        <p:blipFill>
          <a:blip r:embed="rId2"/>
          <a:stretch/>
        </p:blipFill>
        <p:spPr>
          <a:xfrm>
            <a:off x="3203640" y="1341360"/>
            <a:ext cx="28083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标题 2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394840" cy="1171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D:\快盘\宇客云\EaseOk\手机网站素材\绑定.png"/>
          <p:cNvPicPr/>
          <p:nvPr/>
        </p:nvPicPr>
        <p:blipFill>
          <a:blip r:embed="rId2"/>
          <a:stretch/>
        </p:blipFill>
        <p:spPr>
          <a:xfrm>
            <a:off x="3203640" y="1484280"/>
            <a:ext cx="2714400" cy="4824360"/>
          </a:xfrm>
          <a:prstGeom prst="rect">
            <a:avLst/>
          </a:prstGeom>
          <a:ln w="0">
            <a:noFill/>
          </a:ln>
        </p:spPr>
      </p:pic>
      <p:sp>
        <p:nvSpPr>
          <p:cNvPr id="566" name="TextBox 3"/>
          <p:cNvSpPr/>
          <p:nvPr/>
        </p:nvSpPr>
        <p:spPr>
          <a:xfrm>
            <a:off x="6572160" y="4357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注：如果发现页面文字重叠，可能是您将微信显示的字体调大了。暂时调回正常大小即可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标题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D:\快盘\宇客云\EaseOk\手机网站素材\成绩查询.jpg"/>
          <p:cNvPicPr/>
          <p:nvPr/>
        </p:nvPicPr>
        <p:blipFill>
          <a:blip r:embed="rId2"/>
          <a:stretch/>
        </p:blipFill>
        <p:spPr>
          <a:xfrm>
            <a:off x="3059280" y="1306440"/>
            <a:ext cx="30384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标题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D:\快盘\宇客云\EaseOk\宇客云家校\微信查询成绩.png"/>
          <p:cNvPicPr/>
          <p:nvPr/>
        </p:nvPicPr>
        <p:blipFill>
          <a:blip r:embed="rId2"/>
          <a:stretch/>
        </p:blipFill>
        <p:spPr>
          <a:xfrm>
            <a:off x="5148360" y="1881360"/>
            <a:ext cx="3433680" cy="3816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D:\快盘\宇客云\EaseOk\宇客云家校\微信查询界面.jpg"/>
          <p:cNvPicPr/>
          <p:nvPr/>
        </p:nvPicPr>
        <p:blipFill>
          <a:blip r:embed="rId3"/>
          <a:srcRect l="0" t="0" r="0" b="6757"/>
          <a:stretch/>
        </p:blipFill>
        <p:spPr>
          <a:xfrm>
            <a:off x="1116000" y="1514520"/>
            <a:ext cx="2673360" cy="4430520"/>
          </a:xfrm>
          <a:prstGeom prst="rect">
            <a:avLst/>
          </a:prstGeom>
          <a:ln w="0">
            <a:noFill/>
          </a:ln>
        </p:spPr>
      </p:pic>
      <p:sp>
        <p:nvSpPr>
          <p:cNvPr id="572" name="右箭头 3"/>
          <p:cNvSpPr/>
          <p:nvPr/>
        </p:nvSpPr>
        <p:spPr>
          <a:xfrm>
            <a:off x="3995640" y="3645000"/>
            <a:ext cx="1008000" cy="21564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7:44:58Z</dcterms:created>
  <dc:creator>Hacker_wwy</dc:creator>
  <dc:description/>
  <dc:language>en-US</dc:language>
  <cp:lastModifiedBy>user</cp:lastModifiedBy>
  <dcterms:modified xsi:type="dcterms:W3CDTF">2016-01-13T14:27:59Z</dcterms:modified>
  <cp:revision>5</cp:revision>
  <dc:subject/>
  <dc:title>使用微信，免费查询孩子成绩</dc:title>
</cp:coreProperties>
</file>