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BBDE-B634-4A78-B509-50C9DB8CF1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2410-BEB2-4340-BD3C-55345265C8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B75-7FF8-4E57-9F4A-45BFE510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67D-A7EE-4E96-8257-6458247B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624-BC69-437C-94BA-6DD49095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436-F6D7-4ACC-8CB8-95A1DD7E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51B-90A9-4869-8710-FC2FAABD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B93-FDA8-41C7-8941-52695C2B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64D-60CD-4FB3-87C9-806E35F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599-E653-4EC5-A76C-F2315B3F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951-61C5-4730-B7ED-5B46059E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3CD-6CC8-4CBF-B987-CAB9E65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609-4174-49F7-BE51-245CF4A5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16D-53A1-41FD-8199-18333EC0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99E5-80D4-42E9-97A8-19C2055CCC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484280"/>
            <a:ext cx="7129440" cy="360036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二等奖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iPh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数量 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484280"/>
            <a:ext cx="7129440" cy="360036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抽奖嘉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王大伟 总经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21:44Z</dcterms:modified>
  <cp:revision>27</cp:revision>
  <dc:subject/>
  <dc:title>幻灯片 1</dc:title>
</cp:coreProperties>
</file>