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9D71-B9E6-4F77-B118-1750819723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DA6D-0292-4FFF-AB9F-399AAC9010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4D7B-AAEE-4C8F-A405-EFBC2A8A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8008-1E27-48C0-B7CA-0F67B7C8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E0A8-BA71-4262-B3D7-84B6DF47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25D5-5AD4-410E-9249-D7DD575A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3F0-6FE9-45B3-98AA-D775503D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9AB9-7CC9-4945-A0AE-3B143457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0C3E-3623-4A9B-8EDC-AC2EA4BF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E9F6-F8AF-4902-959C-0101614A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22E-B4A8-4A35-BB36-3DA5F286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D50-58A1-4E47-8F70-8B323165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A31E-1C87-448B-8F94-9DA0699D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625-D17B-426F-993D-B0BC4CC4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3CCC-96E9-4320-9E04-9F9B967A25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3:57:15Z</dcterms:created>
  <dc:creator>微软系统</dc:creator>
  <dc:description/>
  <dc:language>en-US</dc:language>
  <cp:lastModifiedBy>行易软件 http://www.ExeSoft.cn</cp:lastModifiedBy>
  <dcterms:modified xsi:type="dcterms:W3CDTF">2013-01-10T15:15:28Z</dcterms:modified>
  <cp:revision>22</cp:revision>
  <dc:subject/>
  <dc:title>幻灯片 1</dc:title>
</cp:coreProperties>
</file>