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177C-68D1-48A8-84DD-00AD9CD3A4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7D16-F17E-477B-BF0A-CAD0E1797E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E91E-D42D-419D-849A-0FC6267B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697-95AD-48DD-829D-3EA548D8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842-BD73-4F4F-87DE-4B0DF1EE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0B1-2BB3-4E43-A948-D62F4DEC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403-C415-434D-9F13-D0563487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42F6-5E37-4FA2-A85A-49C9E186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FE7-1137-4BF0-81DC-00AC44B8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B55-63C9-4501-A751-BB5C07BD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3FC-DEF4-41B5-957B-85114665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FA5-57F6-436C-AA7D-1D21BBF4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66D4-8D5C-464B-A54A-21D5B706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8044-1409-4217-9FFA-17E162CB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B1CA-B3D2-497A-A81C-E2F21B164B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微软系统</dc:creator>
  <dc:description/>
  <dc:language>en-US</dc:language>
  <cp:lastModifiedBy>行易软件 http://www.ExeSoft.cn</cp:lastModifiedBy>
  <dcterms:modified xsi:type="dcterms:W3CDTF">2013-01-10T15:15:28Z</dcterms:modified>
  <cp:revision>22</cp:revision>
  <dc:subject/>
  <dc:title>幻灯片 1</dc:title>
</cp:coreProperties>
</file>