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6ED-2D84-4986-AC1D-10053F45F2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597-4777-4AD9-9166-CB4B1BA65D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692-CAB0-459D-9545-C3726FCE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955-B40B-4517-B3D1-CB57A72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BAF-074E-4E84-AF59-2F1F01E8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04B-58C0-4099-9256-28A86C1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952-62F4-475D-A2C2-9E6E89B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03E-C00D-4062-A185-7ED6A5CE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A5-9E33-4950-B958-4AE0800E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7B4-4928-47E9-B11B-6DFBFE9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668-1A9F-4FBA-A2DD-9C467695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2D0-F623-4C6A-97CD-0342816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9DC-29F5-460D-9E9D-EA42FD42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83F-ABBB-4115-B73A-8DF87C58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C1AA-A622-488A-8AA0-342B74C16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10T15:15:28Z</dcterms:modified>
  <cp:revision>22</cp:revision>
  <dc:subject/>
  <dc:title>幻灯片 1</dc:title>
</cp:coreProperties>
</file>