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5478-9244-4652-9405-6663538D92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DAB8-C743-431F-998B-D4DB6F6E918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60AD-A94D-4151-B8E0-B3A673F2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F122-7EC7-491F-8F2B-8625F105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6DD8-02BF-44F0-853F-A5BCEC63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3FDA-05A4-40A3-B5DA-25E1E597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926A-F9EC-4C9A-8870-BFBE081C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9BF-6870-46D6-B7B8-DB25399B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9392-24C7-4193-ACED-9AB290A5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B38C-F65B-4454-AB10-5AAA1B94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1BEE-FD3E-4FA0-8177-11EE9520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9A6F-3F41-4711-B117-1C416CE4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DD7-456C-4940-BC7C-ABD6AC01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E628-6282-4636-80D9-672B908F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5CE6-13EB-4A70-9168-324BDC271D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3:57:15Z</dcterms:created>
  <dc:creator>微软系统</dc:creator>
  <dc:description/>
  <dc:language>en-US</dc:language>
  <cp:lastModifiedBy>行易软件 http://www.ExeSoft.cn</cp:lastModifiedBy>
  <dcterms:modified xsi:type="dcterms:W3CDTF">2013-01-22T14:49:52Z</dcterms:modified>
  <cp:revision>28</cp:revision>
  <dc:subject/>
  <dc:title>幻灯片 1</dc:title>
</cp:coreProperties>
</file>