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2B30-0F68-4673-8B70-96FCED69FE0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安七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杜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刘亦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蔡依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曹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陈楚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陈慧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陈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陈乔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陈意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成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7D80-72DD-47C4-88F8-85C0AF7F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3B27-B0F6-45E3-8A9C-0F9AFD71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7788-7219-4B30-872A-DDCC6B0C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03BB-FC8E-4C03-BA48-306858DA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0135-EFC4-4C1C-8223-E1398E84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38D5-6417-4C78-9BBC-4377A06F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19A9-104F-4700-8D2C-D886DA14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3A7F-1A49-4DFB-BAB7-702F9CCE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F9C2-F8A7-429F-AE15-8935FA97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22FC-67ED-413E-8AF9-A8B29B28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ED90-5B8E-4D1B-8E4E-C7B5A059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8478-8BA6-4AC9-96FB-E1C9E50A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7640" y="5733720"/>
            <a:ext cx="2133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4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2028-CD54-4CBB-88C6-BDD50656183C}" type="slidenum">
              <a:rPr b="1" lang="zh-CN" sz="4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843280" y="692280"/>
            <a:ext cx="3514680" cy="5752440"/>
            <a:chOff x="2843280" y="692280"/>
            <a:chExt cx="3514680" cy="5752440"/>
          </a:xfrm>
        </p:grpSpPr>
        <p:sp>
          <p:nvSpPr>
            <p:cNvPr id="50" name=""/>
            <p:cNvSpPr/>
            <p:nvPr/>
          </p:nvSpPr>
          <p:spPr>
            <a:xfrm>
              <a:off x="2843280" y="692280"/>
              <a:ext cx="3514680" cy="5486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43280" y="6216480"/>
              <a:ext cx="35146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安七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29FC-3355-453A-8139-F5FE599F901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624040" y="685800"/>
            <a:ext cx="3895920" cy="5753160"/>
            <a:chOff x="2624040" y="685800"/>
            <a:chExt cx="3895920" cy="5753160"/>
          </a:xfrm>
        </p:grpSpPr>
        <p:sp>
          <p:nvSpPr>
            <p:cNvPr id="86" name=""/>
            <p:cNvSpPr/>
            <p:nvPr/>
          </p:nvSpPr>
          <p:spPr>
            <a:xfrm>
              <a:off x="2624040" y="685800"/>
              <a:ext cx="389592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24040" y="6210360"/>
              <a:ext cx="389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大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5C93-A03F-4EAE-8C67-0415C750B2B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614680" y="685800"/>
            <a:ext cx="3913200" cy="5753160"/>
            <a:chOff x="2614680" y="685800"/>
            <a:chExt cx="3913200" cy="5753160"/>
          </a:xfrm>
        </p:grpSpPr>
        <p:sp>
          <p:nvSpPr>
            <p:cNvPr id="90" name=""/>
            <p:cNvSpPr/>
            <p:nvPr/>
          </p:nvSpPr>
          <p:spPr>
            <a:xfrm>
              <a:off x="2614680" y="685800"/>
              <a:ext cx="391320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14680" y="6210360"/>
              <a:ext cx="391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杜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F50F-8C7D-4632-8D41-8216BD165DC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122560" y="685800"/>
            <a:ext cx="4898880" cy="5753160"/>
            <a:chOff x="2122560" y="685800"/>
            <a:chExt cx="4898880" cy="5753160"/>
          </a:xfrm>
        </p:grpSpPr>
        <p:sp>
          <p:nvSpPr>
            <p:cNvPr id="94" name=""/>
            <p:cNvSpPr/>
            <p:nvPr/>
          </p:nvSpPr>
          <p:spPr>
            <a:xfrm>
              <a:off x="2122560" y="685800"/>
              <a:ext cx="489888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22560" y="6210360"/>
              <a:ext cx="489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刘亦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E6F-8CC6-402E-B0E6-D972EFD6472D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374920" y="685800"/>
            <a:ext cx="4394160" cy="5753160"/>
            <a:chOff x="2374920" y="685800"/>
            <a:chExt cx="4394160" cy="5753160"/>
          </a:xfrm>
        </p:grpSpPr>
        <p:sp>
          <p:nvSpPr>
            <p:cNvPr id="54" name=""/>
            <p:cNvSpPr/>
            <p:nvPr/>
          </p:nvSpPr>
          <p:spPr>
            <a:xfrm>
              <a:off x="2374920" y="685800"/>
              <a:ext cx="439416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74920" y="6210360"/>
              <a:ext cx="4394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蔡依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6980-F8CD-4FC9-88CF-6D3AFCAC612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589120" y="685800"/>
            <a:ext cx="3963960" cy="5753160"/>
            <a:chOff x="2589120" y="685800"/>
            <a:chExt cx="3963960" cy="5753160"/>
          </a:xfrm>
        </p:grpSpPr>
        <p:sp>
          <p:nvSpPr>
            <p:cNvPr id="58" name=""/>
            <p:cNvSpPr/>
            <p:nvPr/>
          </p:nvSpPr>
          <p:spPr>
            <a:xfrm>
              <a:off x="2589120" y="685800"/>
              <a:ext cx="396396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89120" y="6210360"/>
              <a:ext cx="396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曹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B520-4749-4477-BADE-D84C19F17B3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5800" y="847800"/>
            <a:ext cx="7772400" cy="5429160"/>
            <a:chOff x="685800" y="847800"/>
            <a:chExt cx="7772400" cy="5429160"/>
          </a:xfrm>
        </p:grpSpPr>
        <p:sp>
          <p:nvSpPr>
            <p:cNvPr id="62" name=""/>
            <p:cNvSpPr/>
            <p:nvPr/>
          </p:nvSpPr>
          <p:spPr>
            <a:xfrm>
              <a:off x="685800" y="847800"/>
              <a:ext cx="7772400" cy="5162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5800" y="6048360"/>
              <a:ext cx="77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陈楚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C89C-7071-42EC-989E-2341F5250A3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914400" y="685800"/>
            <a:ext cx="7315200" cy="5753160"/>
            <a:chOff x="914400" y="685800"/>
            <a:chExt cx="7315200" cy="5753160"/>
          </a:xfrm>
        </p:grpSpPr>
        <p:sp>
          <p:nvSpPr>
            <p:cNvPr id="66" name="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14400" y="6210360"/>
              <a:ext cx="73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陈慧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3169-DA6C-484B-8C1B-21467B6BBEC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114640" y="685800"/>
            <a:ext cx="4913280" cy="5753160"/>
            <a:chOff x="2114640" y="685800"/>
            <a:chExt cx="4913280" cy="5753160"/>
          </a:xfrm>
        </p:grpSpPr>
        <p:sp>
          <p:nvSpPr>
            <p:cNvPr id="70" name=""/>
            <p:cNvSpPr/>
            <p:nvPr/>
          </p:nvSpPr>
          <p:spPr>
            <a:xfrm>
              <a:off x="2114640" y="685800"/>
              <a:ext cx="491328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14640" y="6210360"/>
              <a:ext cx="4913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陈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6122-B71D-4131-A0B3-7C005E8EFCC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440080" y="685800"/>
            <a:ext cx="4263840" cy="5753160"/>
            <a:chOff x="2440080" y="685800"/>
            <a:chExt cx="4263840" cy="5753160"/>
          </a:xfrm>
        </p:grpSpPr>
        <p:sp>
          <p:nvSpPr>
            <p:cNvPr id="74" name=""/>
            <p:cNvSpPr/>
            <p:nvPr/>
          </p:nvSpPr>
          <p:spPr>
            <a:xfrm>
              <a:off x="2440080" y="685800"/>
              <a:ext cx="426384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40080" y="6210360"/>
              <a:ext cx="4263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陈乔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009-21BF-4FA6-9748-2400038BBF2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052720" y="685800"/>
            <a:ext cx="5038560" cy="5753160"/>
            <a:chOff x="2052720" y="685800"/>
            <a:chExt cx="5038560" cy="5753160"/>
          </a:xfrm>
        </p:grpSpPr>
        <p:sp>
          <p:nvSpPr>
            <p:cNvPr id="78" name=""/>
            <p:cNvSpPr/>
            <p:nvPr/>
          </p:nvSpPr>
          <p:spPr>
            <a:xfrm>
              <a:off x="2052720" y="685800"/>
              <a:ext cx="503856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2720" y="6210360"/>
              <a:ext cx="503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陈意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62FE-DE73-488D-A45E-1D629FA44B7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444760" y="685800"/>
            <a:ext cx="4254480" cy="5753160"/>
            <a:chOff x="2444760" y="685800"/>
            <a:chExt cx="4254480" cy="5753160"/>
          </a:xfrm>
        </p:grpSpPr>
        <p:sp>
          <p:nvSpPr>
            <p:cNvPr id="82" name=""/>
            <p:cNvSpPr/>
            <p:nvPr/>
          </p:nvSpPr>
          <p:spPr>
            <a:xfrm>
              <a:off x="2444760" y="685800"/>
              <a:ext cx="425448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44760" y="6210360"/>
              <a:ext cx="4254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成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32B5-88BC-4366-A7B3-09366AD4382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3:57:15Z</dcterms:created>
  <dc:creator>行易软件 http://www.ExeSoft.cn</dc:creator>
  <dc:description/>
  <dc:language>en-US</dc:language>
  <cp:lastModifiedBy>行易软件</cp:lastModifiedBy>
  <dcterms:modified xsi:type="dcterms:W3CDTF">2015-01-09T08:06:57Z</dcterms:modified>
  <cp:revision>24</cp:revision>
  <dc:subject/>
  <dc:title>图片PPT</dc:title>
</cp:coreProperties>
</file>