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CF9-17C4-42C8-ADA3-E9B4A78B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6D4-96FA-4AFE-AE0C-041EE902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E50-B69D-4221-8EC4-5DB78EDF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746-C9D1-4D23-944F-F7B2C47E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67F9-783B-4E6A-863F-CD19F05E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CE9-C24D-4DFC-A10B-995C999B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AA8-4451-4658-9800-C889AF59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075-C9D5-4B84-B249-06B2CC30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384-D0C6-42F0-9880-01CAF9F5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B2B-DE22-44DF-BE88-D54CE6BA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842-CFD9-49DC-8BC8-FFA60D87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04E-8BC3-415E-A064-86AFA9B1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BF2F-C0D2-49B4-9945-E11004D46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557360"/>
            <a:ext cx="6769440" cy="2925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行易软件</a:t>
            </a: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2015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年度幸运抽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276640"/>
            <a:ext cx="7920000" cy="36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等奖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2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名 欧洲双人豪华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等奖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3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名 液晶彩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476280"/>
            <a:ext cx="792000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抽奖规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3:19:33Z</dcterms:created>
  <dc:creator>Boomcode</dc:creator>
  <dc:description/>
  <dc:language>en-US</dc:language>
  <cp:lastModifiedBy>行易软件</cp:lastModifiedBy>
  <dcterms:modified xsi:type="dcterms:W3CDTF">2015-01-09T08:05:33Z</dcterms:modified>
  <cp:revision>15</cp:revision>
  <dc:subject/>
  <dc:title>幻灯片 1</dc:title>
</cp:coreProperties>
</file>