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97CC-5369-443F-AD62-F5CEE9A3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1BC-D893-4575-9395-2A4195A8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2D37-F93F-4033-9538-11A6A440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E70E-3229-4442-8524-B51983FC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35F-086B-4FAC-AE33-1A578A63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0515-3C54-4F6B-8935-D65FC43D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AA40-8EB1-4BD9-8905-F4B17CCB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FD47-4391-441B-9F91-C769B8B1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B8DF-5167-44C9-9805-825E571D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5569-718F-4466-9DF6-8A3698DB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17DD-F5F9-443A-89C5-4261F6D6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F305-6E82-4A81-8656-BA201143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5902-FBD9-40F6-BCC6-8A13FB33711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xx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0006.20100601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6-01T02:30:16Z</dcterms:modified>
  <cp:revision>97</cp:revision>
  <dc:subject/>
  <dc:title>投影片 1</dc:title>
</cp:coreProperties>
</file>