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3B64-BFB3-46E0-8CA7-0C80DC2AD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A687-79B8-4A5C-8CB8-854A2E5F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1951C-7E56-4BCD-8B50-74ECD48D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9270E-9B5D-41EB-9990-6BADABC3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C5F3B-1EB0-488F-89BA-8266B740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B774A-6173-422B-83ED-046DBAE8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E1CEA-35B1-4FAA-991C-26598AC4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E244E-1D92-49A4-A050-3758960A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A56A7-8098-454A-99BF-40381A9F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A1C56-6CF6-4949-906C-84DCF6032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53F247-33E7-417E-99B4-B46573CE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1A6BA-A21A-469F-B652-2DE5233E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7478-5B41-4E32-8F3F-AB24FFCD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AB1F5-D236-40D9-9293-01DF3C65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459B6-EC71-41A2-929F-ADF2F7F7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A197A-ADC8-4A9D-A05C-BEEEDECA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83D340-3AD1-4FB4-A1A9-27CB61DC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EEE12-710E-4AD2-9EFC-EB79816F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C42C9-E2DD-49BC-B76B-B6ACD54D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592E0-0EF8-41A6-9A6D-4D5680FF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D0486-7F22-4336-9056-4A5AC7B5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035DB-893D-43EF-B173-748EDCDB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3F6C5-4137-4440-A586-77519F0A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08AE-5FB9-4361-BFD4-22893D80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217B8-F6ED-4D95-B6F9-92AF06A61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45293-8B67-473A-885E-E69A37DC2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5550B-80AA-40D3-B321-4077AFFA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230DC-25FA-48A9-94F2-156B9327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0AB9D-A181-4F1F-8BCA-8388E7FC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9306E-55E8-4DD3-B374-90375F3B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F25A8-0362-44B3-A37B-E3570CFC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CB8D5-FB1C-4E2D-A82C-67A8D5D2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058B0-F0BF-4D92-9630-4D63FA2D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E6CCF-5739-4974-8A18-7D2DDED6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C9D7-D6C5-4A98-A568-A4A0E332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2C0CF-AAF6-44FB-A010-B1C7178F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6D68A-806C-455C-B1BA-55B2B9602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F5960-DB0A-4D49-9E3A-25C46C064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D9D404-C4FE-476D-A1C1-B07415A4B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1E9098-F185-4762-8FB1-4233861F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746C1-05E6-4B71-A738-098BD777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8D6CFC-A14F-45C5-8476-2386D802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3B67D-A195-4412-BF96-3DD9A8AA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8183D-823E-4087-A095-43BBD0E9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84C76-AEB4-4050-8E84-FBC7F2DB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5841-0712-41BB-8E86-6390C163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A48D3-3CF2-455B-B0F0-E02F0B9C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611ABC-ECD5-44E9-B0AF-EE27CD34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3A8FC-D416-4DA7-86A5-71FBCA8D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09EF9-B64A-4F77-B4A8-2CE5A1626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D7E740-4A98-415E-878B-B26096842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95EE67-1420-4E1C-B8B3-1EAC0D7C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FE6FFA-F0AC-4B5B-A6D0-29F38DA6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A688B9-86BF-4C0C-958C-1D647549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D2264F-E54A-4A4C-9E54-56BECF24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84908C-AC80-423B-AFE7-B9F62FD8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80D9-22C1-4F98-8305-1CA9DFD4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1963B8-B36D-4944-8FC6-27F16CD1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525638-8E2B-42CD-8BA0-2447DA01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2C4CD4-5763-4F91-8D7A-F72E522B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72DD03-1C67-44B0-A536-8D55C78C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D9AE6B-1963-4ABC-A17B-56D22EF8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CCBD90-B534-4344-B333-C7665E78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81D3B4-B32D-47F5-8510-1F7BC0945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ECBB2F-59CE-4E54-A568-8645C4BDF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DF7924-D467-4405-BA71-8812CDF1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01A27E-2054-4E35-B437-920C4D5D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DD91-49F5-4A37-8969-408B7DA6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BE3DFE-569A-4F77-ADC5-AB2172F7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59AAFA-08D6-454E-BEDD-4E0B26C2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F701A9-E17C-4851-988D-E6CAFD02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C4F6EE-3F15-4BC4-AC76-0B641F33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EA0CEC-CFC4-4D79-8D20-5390ECE0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206E6B-5BE6-49F6-8E4A-67527F42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B124A0-F630-449C-A006-0E495642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C6C6E5-B975-4A61-A9F6-9CEF23D6A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91FF89-A389-4F6B-B9AF-CF5B8D22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6BDB-E786-4A5E-B808-7C7B9F85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961C-80A4-422F-BEEF-701FD29F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9674-1C89-4DE2-9768-D7EBAAB6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1962-531A-44CA-BEC4-534C7819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27E2-586A-4E03-A869-DCC98A1D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8611-AE72-4BD5-B4A7-903C9313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CEC1-EB7E-4CA3-BE16-56940B95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FB3D-DC12-4487-921E-FB493F9E6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0019-80F9-4467-B679-E7EE8711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54AA5-F55E-4299-B7E2-CCE1549E2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BC72B-7D03-45D2-A4D8-A7F61474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3DBC1-8AF2-442F-9E95-6D0C86E6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2B69A-A9C2-4546-B1F1-BD5A8288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2C354-A997-41CA-9034-3C859A48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C468-37C0-4BCD-95AC-BA300A9B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D0D9F-8613-4E93-BC78-FBEB70FF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6B389-569E-4E44-88D6-BD345AD3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B7459-6768-462B-8C37-3A735816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C553F-DB5D-4B4F-955A-D26F6A42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C9D06-ED16-4E2E-9DFD-00D62E33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61A26-5C71-4226-B8FF-067B7B955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D0FF4-BA23-4B63-AE10-FF598B90C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76D75-7847-42C1-98AB-7C3081FBA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9F46F-A020-4265-BD25-F79C2B4B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94EDD-EE80-44F8-B2C4-C6858111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7B2B-AD40-4A86-BF9B-F6E65BB9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B8568-9168-4AB0-A6F8-9DD2034F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2770A-B710-43E9-ABB3-62975120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3E3AF-6470-4A43-8868-4B656FDF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B0650-72B4-46B5-9D9E-FB0D3472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54670-4BBF-401B-8809-03D636EE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19F7A-612A-4C7F-B0D0-E375E5E1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5FF29-4988-4330-AD5C-21AE2CF1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D0181-53F8-4223-9C74-768E16F6F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4DAA8-7034-4D92-A4C9-DF6A98C6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948E6-B2EF-49C6-86F8-C129EB3B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F8E4-8E2E-4329-8E4A-520B31E2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9EDBB-8C6E-495A-A6C9-79CE42DD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11376-66B4-41D8-9171-32AB1BA0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8ED64-3E38-492F-9BBA-97A013B9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E184D-A53F-4A88-BBFE-9CBD04A0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56373-6EB6-4F54-B7BC-78260B8B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DDF00-A0D0-4E81-9985-54BDC939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CFD29-6035-4A3B-A8C2-354F451C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25572-3C0C-4578-9D89-C3E2D69A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641AC-7811-441B-A2CC-C540255C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A1FF6-DD5E-4A87-BAFC-EF45B5A99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16EB-B814-42A5-83D8-29817327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077FA-7564-4B11-852E-9FA02C6F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80ABE-A4E7-4E85-9C3F-EA1471F00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2CF9F-C73E-4D4F-A3FB-6A71A832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AC4B5-96F5-4FD6-B1C8-A2CA002A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CEAF1-5B00-41D7-B6E3-52F1C11C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CD0A0-0732-4C42-8AEE-2FB6A2E8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B6FE8-FE03-4BD0-A4A4-272494BE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9C6A3-DB84-4755-9474-2C8BDBF0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7B40C-3C69-4FD8-99BD-4803A8B7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481CF-D933-4789-A2D8-52EB8B06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2927-5753-4EC0-809F-F485A092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F14F2-72FA-474E-903C-7294D071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2278E-4D57-4779-AA71-81CCFC143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B19C3-7FEC-477C-9E36-217B59E9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34D1C-9D27-4B4D-B1B5-637D1B739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07EEF-76C2-45E0-8673-8422E12A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7AB30-5D92-4C8B-92FC-1F2560FD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E5352-45D2-4C69-84E7-0D036D17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62F0C-7996-44AB-8132-AED84C1E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46D05-913D-4FDC-BFAF-516B5E10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66758-E37F-49AC-B151-358E65A6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264A-C028-4CC1-A463-F17321EE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E047A-4439-4154-A768-B67998D7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1170F-5E60-4D35-9824-F3311CB8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53D3D-8E5E-4165-9BCB-0A7A352C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46320-539C-4896-A7AE-21604CE7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64C9D-3483-48C5-B282-4F3D6FFBC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1C237-9900-4059-A52D-7E737F529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08D27-3409-47DC-955E-131E85F2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F2986-9CF6-422C-8F77-BDF4D047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F192D-33C0-480C-9ECD-EB48A372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92048-B1FC-4C65-A540-30D5FAEC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344A-625C-4A00-AE59-085640C8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A000F-2322-4F88-BD42-35E129AE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3294C-EAB0-4B71-B9D6-D1A26795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9BB4F-D1FA-4D97-A933-35AD2DB9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653A7-7CCC-4598-BB8B-C6D8F968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006F9-5E8C-4D55-A854-37C40B45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7C573-6466-4719-88B3-1A2F6023A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C96FC-E3C4-478C-964A-EE4A4408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AC7BD-AA94-479E-BFDC-74AEE7283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B8491-E707-47E7-8337-E3C3FFF9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AB829-CB93-45C6-AD9C-01DEC27A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8239-D752-46C0-87D9-113383D04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矩形 6"/>
          <p:cNvSpPr/>
          <p:nvPr/>
        </p:nvSpPr>
        <p:spPr>
          <a:xfrm>
            <a:off x="3240" y="-50760"/>
            <a:ext cx="9140760" cy="706320"/>
          </a:xfrm>
          <a:prstGeom prst="rect">
            <a:avLst/>
          </a:prstGeom>
          <a:solidFill>
            <a:srgbClr val="9b743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椭圆 7"/>
          <p:cNvSpPr/>
          <p:nvPr/>
        </p:nvSpPr>
        <p:spPr>
          <a:xfrm>
            <a:off x="895320" y="585720"/>
            <a:ext cx="468360" cy="468360"/>
          </a:xfrm>
          <a:prstGeom prst="ellipse">
            <a:avLst/>
          </a:prstGeom>
          <a:solidFill>
            <a:srgbClr val="d1b48c"/>
          </a:solidFill>
          <a:ln w="25560">
            <a:solidFill>
              <a:srgbClr val="fffff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椭圆 8"/>
          <p:cNvGrpSpPr/>
          <p:nvPr/>
        </p:nvGrpSpPr>
        <p:grpSpPr>
          <a:xfrm>
            <a:off x="-30240" y="-12600"/>
            <a:ext cx="1206720" cy="1208160"/>
            <a:chOff x="-30240" y="-12600"/>
            <a:chExt cx="1206720" cy="1208160"/>
          </a:xfrm>
        </p:grpSpPr>
        <p:pic>
          <p:nvPicPr>
            <p:cNvPr id="373" name="椭圆 8" descr=""/>
            <p:cNvPicPr/>
            <p:nvPr/>
          </p:nvPicPr>
          <p:blipFill>
            <a:blip r:embed="rId3"/>
            <a:stretch/>
          </p:blipFill>
          <p:spPr>
            <a:xfrm>
              <a:off x="-30240" y="-12600"/>
              <a:ext cx="120672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162000" y="184320"/>
              <a:ext cx="76356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4AA4-3E9D-4767-89FC-73F28C9243D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AA26-0EF7-40AA-B0E9-0673AF0FF89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FCCC-7E25-4C2B-A84B-4DD6C55AE82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32EF-329B-4F0D-B6C0-DDF76E2B8C3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329E-D887-4E6B-AFBE-085DD55BEE2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45AB-EDB5-428E-AD23-59651E0555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F7FE-0B0F-4727-B62D-D2DC68AE7D0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2611-68DE-4661-957B-83EA6B7404B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21BD-A5B4-4C3B-9EBF-975577C3CDE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593C-BFD5-4A1F-8F26-B02223DEBFD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8770-BBF9-420F-B396-016979C2278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F0C6-46AE-42C1-86EE-FFF433258A3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6478-EE0A-4228-B4E0-0832F6D3280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7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5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70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5" descr="11"/>
          <p:cNvPicPr/>
          <p:nvPr/>
        </p:nvPicPr>
        <p:blipFill>
          <a:blip r:embed="rId1"/>
          <a:stretch/>
        </p:blipFill>
        <p:spPr>
          <a:xfrm>
            <a:off x="0" y="0"/>
            <a:ext cx="9144000" cy="70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5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70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5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5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9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5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9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组合 3"/>
          <p:cNvGrpSpPr/>
          <p:nvPr/>
        </p:nvGrpSpPr>
        <p:grpSpPr>
          <a:xfrm>
            <a:off x="4680" y="4076640"/>
            <a:ext cx="9167760" cy="1791360"/>
            <a:chOff x="4680" y="4076640"/>
            <a:chExt cx="9167760" cy="1791360"/>
          </a:xfrm>
        </p:grpSpPr>
        <p:sp>
          <p:nvSpPr>
            <p:cNvPr id="596" name="矩形 4"/>
            <p:cNvSpPr/>
            <p:nvPr/>
          </p:nvSpPr>
          <p:spPr>
            <a:xfrm>
              <a:off x="1249560" y="4691160"/>
              <a:ext cx="4571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360"/>
                  <a:tab algn="l" pos="181080"/>
                  <a:tab algn="l" pos="271440"/>
                  <a:tab algn="l" pos="361800"/>
                  <a:tab algn="l" pos="452520"/>
                  <a:tab algn="l" pos="542880"/>
                  <a:tab algn="l" pos="633240"/>
                  <a:tab algn="l" pos="723960"/>
                  <a:tab algn="l" pos="814320"/>
                  <a:tab algn="l" pos="905040"/>
                  <a:tab algn="l" pos="995400"/>
                  <a:tab algn="l" pos="1085760"/>
                  <a:tab algn="l" pos="1176480"/>
                  <a:tab algn="l" pos="1266840"/>
                  <a:tab algn="l" pos="1357200"/>
                  <a:tab algn="l" pos="1447920"/>
                  <a:tab algn="l" pos="1538280"/>
                  <a:tab algn="l" pos="1628640"/>
                  <a:tab algn="l" pos="1719360"/>
                  <a:tab algn="l" pos="1809720"/>
                </a:tabLst>
              </a:pP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矩形 5"/>
            <p:cNvSpPr/>
            <p:nvPr/>
          </p:nvSpPr>
          <p:spPr>
            <a:xfrm>
              <a:off x="4680" y="4076640"/>
              <a:ext cx="9167760" cy="1298520"/>
            </a:xfrm>
            <a:prstGeom prst="rect">
              <a:avLst/>
            </a:prstGeom>
            <a:solidFill>
              <a:srgbClr val="e50515"/>
            </a:solidFill>
            <a:ln w="0">
              <a:noFill/>
            </a:ln>
            <a:effectLst>
              <a:outerShdw dist="12708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圆角矩形 6"/>
            <p:cNvSpPr/>
            <p:nvPr/>
          </p:nvSpPr>
          <p:spPr>
            <a:xfrm>
              <a:off x="4696200" y="4852080"/>
              <a:ext cx="3763080" cy="486000"/>
            </a:xfrm>
            <a:prstGeom prst="roundRect">
              <a:avLst>
                <a:gd name="adj" fmla="val 16667"/>
              </a:avLst>
            </a:prstGeom>
            <a:solidFill>
              <a:srgbClr val="3e4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9" name="图片 17" descr=""/>
            <p:cNvPicPr/>
            <p:nvPr/>
          </p:nvPicPr>
          <p:blipFill>
            <a:blip r:embed="rId1"/>
            <a:srcRect l="0" t="0" r="0" b="18563"/>
            <a:stretch/>
          </p:blipFill>
          <p:spPr>
            <a:xfrm>
              <a:off x="3396240" y="4140720"/>
              <a:ext cx="117252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文本框 9"/>
            <p:cNvSpPr/>
            <p:nvPr/>
          </p:nvSpPr>
          <p:spPr>
            <a:xfrm>
              <a:off x="4651200" y="4330080"/>
              <a:ext cx="59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搜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矩形 13"/>
            <p:cNvSpPr/>
            <p:nvPr/>
          </p:nvSpPr>
          <p:spPr>
            <a:xfrm>
              <a:off x="5850360" y="4158720"/>
              <a:ext cx="2123640" cy="11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400" spc="-1" strike="noStrike">
                  <a:solidFill>
                    <a:srgbClr val="fa7f6e"/>
                  </a:solidFill>
                  <a:latin typeface="方正正中黑简体"/>
                  <a:ea typeface="方正正中黑简体"/>
                </a:rPr>
                <a:t>和</a:t>
              </a:r>
              <a:r>
                <a:rPr b="0" lang="zh-CN" sz="2400" spc="-1" strike="noStrike">
                  <a:solidFill>
                    <a:srgbClr val="7f7f7f"/>
                  </a:solidFill>
                  <a:latin typeface="方正正中黑简体"/>
                  <a:ea typeface="方正正中黑简体"/>
                </a:rPr>
                <a:t> </a:t>
              </a:r>
              <a:r>
                <a:rPr b="1" lang="zh-CN" sz="45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秋叶</a:t>
              </a:r>
              <a:r>
                <a:rPr b="0" lang="zh-CN" sz="2400" spc="-1" strike="noStrike">
                  <a:solidFill>
                    <a:srgbClr val="7f7f7f"/>
                  </a:solidFill>
                  <a:latin typeface="方正正中黑简体"/>
                  <a:ea typeface="方正正中黑简体"/>
                </a:rPr>
                <a:t> </a:t>
              </a:r>
              <a:r>
                <a:rPr b="0" lang="zh-CN" sz="2400" spc="-1" strike="noStrike">
                  <a:solidFill>
                    <a:srgbClr val="fa7f6e"/>
                  </a:solidFill>
                  <a:latin typeface="方正正中黑简体"/>
                  <a:ea typeface="方正正中黑简体"/>
                </a:rPr>
                <a:t>一起学</a:t>
              </a:r>
              <a:r>
                <a:rPr b="0" lang="en-US" sz="2400" spc="-1" strike="noStrike">
                  <a:solidFill>
                    <a:srgbClr val="fa7f6e"/>
                  </a:solidFill>
                  <a:latin typeface="方正正中黑简体"/>
                  <a:ea typeface="方正正中黑简体"/>
                </a:rPr>
                <a:t>P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2" name="组合 10" descr=""/>
            <p:cNvPicPr/>
            <p:nvPr/>
          </p:nvPicPr>
          <p:blipFill>
            <a:blip r:embed="rId2"/>
            <a:stretch/>
          </p:blipFill>
          <p:spPr>
            <a:xfrm>
              <a:off x="4559760" y="4651200"/>
              <a:ext cx="889920" cy="9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文本框 11"/>
            <p:cNvSpPr/>
            <p:nvPr/>
          </p:nvSpPr>
          <p:spPr>
            <a:xfrm>
              <a:off x="5233320" y="4905720"/>
              <a:ext cx="15962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网易云课堂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矩形 12"/>
            <p:cNvSpPr/>
            <p:nvPr/>
          </p:nvSpPr>
          <p:spPr>
            <a:xfrm>
              <a:off x="6701040" y="4897440"/>
              <a:ext cx="1649880" cy="3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组合 13"/>
            <p:cNvGrpSpPr/>
            <p:nvPr/>
          </p:nvGrpSpPr>
          <p:grpSpPr>
            <a:xfrm>
              <a:off x="6746400" y="4989240"/>
              <a:ext cx="286200" cy="248400"/>
              <a:chOff x="6746400" y="4989240"/>
              <a:chExt cx="286200" cy="248400"/>
            </a:xfrm>
          </p:grpSpPr>
          <p:sp>
            <p:nvSpPr>
              <p:cNvPr id="606" name="同心圆 20"/>
              <p:cNvSpPr/>
              <p:nvPr/>
            </p:nvSpPr>
            <p:spPr>
              <a:xfrm>
                <a:off x="6746400" y="4989240"/>
                <a:ext cx="189360" cy="189360"/>
              </a:xfrm>
              <a:custGeom>
                <a:avLst/>
                <a:gdLst/>
                <a:ahLst/>
                <a:rect l="l" t="t" r="r" b="b"/>
                <a:pathLst>
                  <a:path w="265821" h="265905">
                    <a:moveTo>
                      <a:pt x="0" y="132953"/>
                    </a:moveTo>
                    <a:cubicBezTo>
                      <a:pt x="0" y="59525"/>
                      <a:pt x="59506" y="0"/>
                      <a:pt x="132911" y="0"/>
                    </a:cubicBezTo>
                    <a:cubicBezTo>
                      <a:pt x="206316" y="0"/>
                      <a:pt x="265822" y="59525"/>
                      <a:pt x="265822" y="132953"/>
                    </a:cubicBezTo>
                    <a:cubicBezTo>
                      <a:pt x="265822" y="206381"/>
                      <a:pt x="206316" y="265906"/>
                      <a:pt x="132911" y="265906"/>
                    </a:cubicBezTo>
                    <a:cubicBezTo>
                      <a:pt x="59506" y="265906"/>
                      <a:pt x="0" y="206381"/>
                      <a:pt x="0" y="132953"/>
                    </a:cubicBezTo>
                    <a:close/>
                    <a:moveTo>
                      <a:pt x="49794" y="132953"/>
                    </a:moveTo>
                    <a:cubicBezTo>
                      <a:pt x="49794" y="178880"/>
                      <a:pt x="87007" y="216112"/>
                      <a:pt x="132911" y="216112"/>
                    </a:cubicBezTo>
                    <a:cubicBezTo>
                      <a:pt x="178815" y="216112"/>
                      <a:pt x="216028" y="178880"/>
                      <a:pt x="216028" y="132953"/>
                    </a:cubicBezTo>
                    <a:cubicBezTo>
                      <a:pt x="216028" y="87026"/>
                      <a:pt x="178815" y="49794"/>
                      <a:pt x="132911" y="49794"/>
                    </a:cubicBezTo>
                    <a:cubicBezTo>
                      <a:pt x="87007" y="49794"/>
                      <a:pt x="49794" y="87026"/>
                      <a:pt x="49794" y="132953"/>
                    </a:cubicBezTo>
                    <a:close/>
                  </a:path>
                </a:pathLst>
              </a:custGeom>
              <a:solidFill>
                <a:srgbClr val="c2c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流程图: 终止 21"/>
              <p:cNvSpPr/>
              <p:nvPr/>
            </p:nvSpPr>
            <p:spPr>
              <a:xfrm rot="2172600">
                <a:off x="6883920" y="5163120"/>
                <a:ext cx="153720" cy="32040"/>
              </a:xfrm>
              <a:prstGeom prst="flowChartTerminator">
                <a:avLst/>
              </a:prstGeom>
              <a:solidFill>
                <a:srgbClr val="c2c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" name="文本框 14"/>
            <p:cNvSpPr/>
            <p:nvPr/>
          </p:nvSpPr>
          <p:spPr>
            <a:xfrm>
              <a:off x="7011720" y="4901040"/>
              <a:ext cx="7570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秋叶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流程图: 终止 15"/>
            <p:cNvSpPr/>
            <p:nvPr/>
          </p:nvSpPr>
          <p:spPr>
            <a:xfrm rot="2458800">
              <a:off x="7560360" y="5556240"/>
              <a:ext cx="606960" cy="128520"/>
            </a:xfrm>
            <a:prstGeom prst="flowChartTerminator">
              <a:avLst/>
            </a:prstGeom>
            <a:solidFill>
              <a:srgbClr val="5d6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组合 7"/>
            <p:cNvGrpSpPr/>
            <p:nvPr/>
          </p:nvGrpSpPr>
          <p:grpSpPr>
            <a:xfrm>
              <a:off x="6971400" y="4773600"/>
              <a:ext cx="846360" cy="847080"/>
              <a:chOff x="6971400" y="4773600"/>
              <a:chExt cx="846360" cy="847080"/>
            </a:xfrm>
          </p:grpSpPr>
          <p:sp>
            <p:nvSpPr>
              <p:cNvPr id="611" name="同心圆 18"/>
              <p:cNvSpPr/>
              <p:nvPr/>
            </p:nvSpPr>
            <p:spPr>
              <a:xfrm>
                <a:off x="6971400" y="4773600"/>
                <a:ext cx="846360" cy="847080"/>
              </a:xfrm>
              <a:custGeom>
                <a:avLst/>
                <a:gdLst/>
                <a:ahLst/>
                <a:rect l="l" t="t" r="r" b="b"/>
                <a:pathLst>
                  <a:path w="998633" h="998634">
                    <a:moveTo>
                      <a:pt x="0" y="499317"/>
                    </a:moveTo>
                    <a:cubicBezTo>
                      <a:pt x="0" y="223552"/>
                      <a:pt x="223552" y="0"/>
                      <a:pt x="499317" y="0"/>
                    </a:cubicBezTo>
                    <a:cubicBezTo>
                      <a:pt x="775082" y="0"/>
                      <a:pt x="998634" y="223552"/>
                      <a:pt x="998634" y="499317"/>
                    </a:cubicBezTo>
                    <a:cubicBezTo>
                      <a:pt x="998634" y="775082"/>
                      <a:pt x="775082" y="998634"/>
                      <a:pt x="499317" y="998634"/>
                    </a:cubicBezTo>
                    <a:cubicBezTo>
                      <a:pt x="223552" y="998634"/>
                      <a:pt x="0" y="775082"/>
                      <a:pt x="0" y="499317"/>
                    </a:cubicBezTo>
                    <a:close/>
                    <a:moveTo>
                      <a:pt x="87960" y="499317"/>
                    </a:moveTo>
                    <a:cubicBezTo>
                      <a:pt x="87960" y="726503"/>
                      <a:pt x="272131" y="910674"/>
                      <a:pt x="499317" y="910674"/>
                    </a:cubicBezTo>
                    <a:cubicBezTo>
                      <a:pt x="726503" y="910674"/>
                      <a:pt x="910674" y="726503"/>
                      <a:pt x="910674" y="499317"/>
                    </a:cubicBezTo>
                    <a:cubicBezTo>
                      <a:pt x="910674" y="272131"/>
                      <a:pt x="726503" y="87960"/>
                      <a:pt x="499317" y="87960"/>
                    </a:cubicBezTo>
                    <a:cubicBezTo>
                      <a:pt x="272131" y="87960"/>
                      <a:pt x="87960" y="272131"/>
                      <a:pt x="87960" y="499317"/>
                    </a:cubicBezTo>
                    <a:close/>
                  </a:path>
                </a:pathLst>
              </a:custGeom>
              <a:solidFill>
                <a:srgbClr val="5d6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2" name="图片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7034400" y="4840200"/>
                <a:ext cx="719280" cy="713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13" name="矩形 23"/>
            <p:cNvSpPr/>
            <p:nvPr/>
          </p:nvSpPr>
          <p:spPr>
            <a:xfrm>
              <a:off x="612000" y="5071320"/>
              <a:ext cx="18954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500" spc="-1" strike="noStrike">
                  <a:solidFill>
                    <a:srgbClr val="f96551"/>
                  </a:solidFill>
                  <a:latin typeface="方正正黑简体"/>
                  <a:ea typeface="方正正黑简体"/>
                </a:rPr>
                <a:t>网易云课堂最受欢迎的付费职场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文本框 25"/>
          <p:cNvSpPr/>
          <p:nvPr/>
        </p:nvSpPr>
        <p:spPr>
          <a:xfrm>
            <a:off x="1366920" y="907920"/>
            <a:ext cx="6410160" cy="24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0515"/>
                </a:solidFill>
                <a:latin typeface="微软雅黑"/>
                <a:ea typeface="微软雅黑"/>
              </a:rPr>
              <a:t>#</a:t>
            </a:r>
            <a:r>
              <a:rPr b="1" lang="zh-CN" sz="3600" spc="-1" strike="noStrike">
                <a:solidFill>
                  <a:srgbClr val="e50515"/>
                </a:solidFill>
                <a:latin typeface="微软雅黑"/>
                <a:ea typeface="微软雅黑"/>
              </a:rPr>
              <a:t>和秋叶一起学</a:t>
            </a:r>
            <a:r>
              <a:rPr b="1" lang="en-US" sz="3600" spc="-1" strike="noStrike">
                <a:solidFill>
                  <a:srgbClr val="e50515"/>
                </a:solidFill>
                <a:latin typeface="微软雅黑"/>
                <a:ea typeface="微软雅黑"/>
              </a:rPr>
              <a:t>PPT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想一次下载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读书笔记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？马上关注：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@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读书笔记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5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9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70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5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70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5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70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5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9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5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9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5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98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5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9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6:32:44Z</dcterms:created>
  <dc:creator>赵媛媛</dc:creator>
  <dc:description/>
  <dc:language>en-US</dc:language>
  <cp:lastModifiedBy>小巴</cp:lastModifiedBy>
  <dcterms:modified xsi:type="dcterms:W3CDTF">2014-12-22T03:47:42Z</dcterms:modified>
  <cp:revision>4</cp:revision>
  <dc:subject/>
  <dc:title>幻灯片 1</dc:title>
</cp:coreProperties>
</file>