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DF65-D754-42BE-9CE0-0B13F51A66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310D-8D15-48C1-8D93-0E15CDD22E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008-DAFB-4C68-90E9-C70F8081D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C35-2F1D-4FD4-8CF1-26509019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2E5-324C-461B-B3BE-C0684D1AC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FF39-320D-4D14-BCA2-4DAB36AF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DC32-FB06-464B-A3C4-17864BAA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1CF5-BFB6-48D4-9CEA-11D355C7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0819-238C-4012-9383-3C2B36AB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7538-7D32-4236-8259-964C560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66B2-52FA-422C-9EA9-ECF3F44F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8F6A-0C17-4E46-B6F7-F63B9452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AF8D-6CCE-4FCD-916A-9194F8EA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5EC-D138-4C25-8886-D31FD6D7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E7B1-60DE-445B-A49E-5D7548D0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C8CC-BF86-43DC-A651-BA208305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5A2B-914B-4B9B-BDB6-55B7461D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3D19-EF4B-443D-9166-FD3E8FBB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5CD6-F48F-4813-95B8-AD9BF3B9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AEAC-BBED-44E4-983B-7C68C9E6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3CC-5B35-4D61-8F98-5F69B7BC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5237-5C8C-4F2F-A35B-DDE868D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4CB-90FC-4354-8EE2-3C3A7374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07E-CA8D-4578-8403-983E581C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35A-E4A2-4EAB-97E1-C2FF8CFD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6CC9-2E21-42C0-9DD4-6F130FF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3268800" y="0"/>
            <a:ext cx="5151240" cy="686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8B15-C19C-405D-A108-98A10289C4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7867800" y="272880"/>
            <a:ext cx="110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-34920" y="2289240"/>
            <a:ext cx="9178920" cy="2471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875-7747-4EBD-B30D-42E30E227E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roduct.dangdang.com/product.aspx?product_id=22538891&amp;ref=search-1-pub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hyperlink" Target="http://hi.baidu.com/paratop" TargetMode="External"/><Relationship Id="rId4" Type="http://schemas.openxmlformats.org/officeDocument/2006/relationships/hyperlink" Target="http://t.sina.com/paralife" TargetMode="Externa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5839560" y="41353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"/>
          <p:cNvSpPr/>
          <p:nvPr/>
        </p:nvSpPr>
        <p:spPr>
          <a:xfrm>
            <a:off x="7337520" y="4135320"/>
            <a:ext cx="9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878040" y="2813040"/>
            <a:ext cx="7864200" cy="168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2"/>
          <a:stretch/>
        </p:blipFill>
        <p:spPr>
          <a:xfrm>
            <a:off x="7518240" y="1766880"/>
            <a:ext cx="1103400" cy="92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5634000" y="5397480"/>
            <a:ext cx="298764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2" descr="">
            <a:hlinkClick r:id="rId1"/>
          </p:cNvPr>
          <p:cNvPicPr/>
          <p:nvPr/>
        </p:nvPicPr>
        <p:blipFill>
          <a:blip r:embed="rId2"/>
          <a:srcRect l="10039" t="0" r="75531" b="0"/>
          <a:stretch/>
        </p:blipFill>
        <p:spPr>
          <a:xfrm>
            <a:off x="7759800" y="5408640"/>
            <a:ext cx="1136520" cy="7365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3" descr=""/>
          <p:cNvPicPr/>
          <p:nvPr/>
        </p:nvPicPr>
        <p:blipFill>
          <a:blip r:embed="rId3"/>
          <a:srcRect l="78791" t="0" r="6780" b="14196"/>
          <a:stretch/>
        </p:blipFill>
        <p:spPr>
          <a:xfrm>
            <a:off x="7729560" y="4776840"/>
            <a:ext cx="1135080" cy="631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F:\My DBank\Paralife\杂务\新书\PPT，要你好看-完整封面(1).png"/>
          <p:cNvPicPr/>
          <p:nvPr/>
        </p:nvPicPr>
        <p:blipFill>
          <a:blip r:embed="rId4"/>
          <a:srcRect l="59597" t="8476" r="22546" b="27534"/>
          <a:stretch/>
        </p:blipFill>
        <p:spPr>
          <a:xfrm>
            <a:off x="2124000" y="1289160"/>
            <a:ext cx="3095640" cy="43099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" descr=""/>
          <p:cNvPicPr/>
          <p:nvPr/>
        </p:nvPicPr>
        <p:blipFill>
          <a:blip r:embed="rId5"/>
          <a:srcRect l="21207" t="3150" r="17508" b="0"/>
          <a:stretch/>
        </p:blipFill>
        <p:spPr>
          <a:xfrm>
            <a:off x="2846520" y="2038320"/>
            <a:ext cx="3611520" cy="42814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5" descr=""/>
          <p:cNvPicPr/>
          <p:nvPr/>
        </p:nvPicPr>
        <p:blipFill>
          <a:blip r:embed="rId6"/>
          <a:srcRect l="53787" t="0" r="27598" b="0"/>
          <a:stretch/>
        </p:blipFill>
        <p:spPr>
          <a:xfrm>
            <a:off x="7689960" y="6157800"/>
            <a:ext cx="1152360" cy="579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7"/>
          <a:stretch/>
        </p:blipFill>
        <p:spPr>
          <a:xfrm>
            <a:off x="139680" y="316080"/>
            <a:ext cx="2706840" cy="85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8"/>
          <a:stretch/>
        </p:blipFill>
        <p:spPr>
          <a:xfrm>
            <a:off x="7524720" y="1108080"/>
            <a:ext cx="1260360" cy="154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9"/>
          <a:stretch/>
        </p:blipFill>
        <p:spPr>
          <a:xfrm>
            <a:off x="3024360" y="219240"/>
            <a:ext cx="589572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6"/>
          <p:cNvSpPr/>
          <p:nvPr/>
        </p:nvSpPr>
        <p:spPr>
          <a:xfrm>
            <a:off x="3319560" y="1724040"/>
            <a:ext cx="51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研究生课程 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。总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0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均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3648960" y="3360600"/>
            <a:ext cx="4463280" cy="757800"/>
            <a:chOff x="3648960" y="3360600"/>
            <a:chExt cx="4463280" cy="757800"/>
          </a:xfrm>
        </p:grpSpPr>
        <p:sp>
          <p:nvSpPr>
            <p:cNvPr id="99" name="矩形 8"/>
            <p:cNvSpPr/>
            <p:nvPr/>
          </p:nvSpPr>
          <p:spPr>
            <a:xfrm>
              <a:off x="5499000" y="336060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9"/>
            <p:cNvSpPr/>
            <p:nvPr/>
          </p:nvSpPr>
          <p:spPr>
            <a:xfrm>
              <a:off x="6996240" y="336060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矩形 10"/>
            <p:cNvSpPr/>
            <p:nvPr/>
          </p:nvSpPr>
          <p:spPr>
            <a:xfrm>
              <a:off x="3648960" y="37353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硕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矩形 11"/>
            <p:cNvSpPr/>
            <p:nvPr/>
          </p:nvSpPr>
          <p:spPr>
            <a:xfrm>
              <a:off x="5499000" y="371952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9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矩形 12"/>
            <p:cNvSpPr/>
            <p:nvPr/>
          </p:nvSpPr>
          <p:spPr>
            <a:xfrm>
              <a:off x="7104600" y="371952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14"/>
            <p:cNvSpPr/>
            <p:nvPr/>
          </p:nvSpPr>
          <p:spPr>
            <a:xfrm>
              <a:off x="3648960" y="33764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博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5" name="图片 2" descr=""/>
          <p:cNvPicPr/>
          <p:nvPr/>
        </p:nvPicPr>
        <p:blipFill>
          <a:blip r:embed="rId1"/>
          <a:stretch/>
        </p:blipFill>
        <p:spPr>
          <a:xfrm>
            <a:off x="2190600" y="32432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Paralife\Downloads\1305510976_ordinateur off.png"/>
          <p:cNvPicPr/>
          <p:nvPr/>
        </p:nvPicPr>
        <p:blipFill>
          <a:blip r:embed="rId2"/>
          <a:stretch/>
        </p:blipFill>
        <p:spPr>
          <a:xfrm>
            <a:off x="2313000" y="184464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5"/>
          <p:cNvSpPr/>
          <p:nvPr/>
        </p:nvSpPr>
        <p:spPr>
          <a:xfrm>
            <a:off x="3319560" y="4786200"/>
            <a:ext cx="51512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硕士论文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4" descr=""/>
          <p:cNvPicPr/>
          <p:nvPr/>
        </p:nvPicPr>
        <p:blipFill>
          <a:blip r:embed="rId3"/>
          <a:stretch/>
        </p:blipFill>
        <p:spPr>
          <a:xfrm rot="748200">
            <a:off x="2300400" y="487980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"/>
          <p:cNvPicPr/>
          <p:nvPr/>
        </p:nvPicPr>
        <p:blipFill>
          <a:blip r:embed="rId4"/>
          <a:stretch/>
        </p:blipFill>
        <p:spPr>
          <a:xfrm>
            <a:off x="52560" y="382680"/>
            <a:ext cx="33955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"/>
          <p:cNvSpPr/>
          <p:nvPr/>
        </p:nvSpPr>
        <p:spPr>
          <a:xfrm>
            <a:off x="3402000" y="2444760"/>
            <a:ext cx="4884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了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博士点的建设工作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学一级学科博士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顺利通过教育部的批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3" descr=""/>
          <p:cNvPicPr/>
          <p:nvPr/>
        </p:nvPicPr>
        <p:blipFill>
          <a:blip r:embed="rId1"/>
          <a:stretch/>
        </p:blipFill>
        <p:spPr>
          <a:xfrm>
            <a:off x="1330200" y="2719440"/>
            <a:ext cx="1695600" cy="1693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413160" y="2440080"/>
            <a:ext cx="48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生已留校工作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1998720" y="231300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3413160" y="345456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破格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73040" y="3618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2"/>
          <p:cNvSpPr/>
          <p:nvPr/>
        </p:nvSpPr>
        <p:spPr>
          <a:xfrm>
            <a:off x="3311640" y="760320"/>
            <a:ext cx="510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持科研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部级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3311640" y="2643120"/>
            <a:ext cx="51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研经费累计到款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0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图片 22" descr=""/>
          <p:cNvPicPr/>
          <p:nvPr/>
        </p:nvPicPr>
        <p:blipFill>
          <a:blip r:embed="rId1"/>
          <a:stretch/>
        </p:blipFill>
        <p:spPr>
          <a:xfrm>
            <a:off x="1963800" y="958680"/>
            <a:ext cx="13050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263520" y="3614760"/>
          <a:ext cx="8156520" cy="2967120"/>
        </p:xfrm>
        <a:graphic>
          <a:graphicData uri="http://schemas.openxmlformats.org/drawingml/2006/table">
            <a:tbl>
              <a:tblPr/>
              <a:tblGrid>
                <a:gridCol w="747720"/>
                <a:gridCol w="4100400"/>
                <a:gridCol w="852480"/>
                <a:gridCol w="1227240"/>
                <a:gridCol w="122868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本人排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总经费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已到款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6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国家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6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横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</a:tbl>
          </a:graphicData>
        </a:graphic>
      </p:graphicFrame>
      <p:pic>
        <p:nvPicPr>
          <p:cNvPr id="121" name="图片 26" descr=""/>
          <p:cNvPicPr/>
          <p:nvPr/>
        </p:nvPicPr>
        <p:blipFill>
          <a:blip r:embed="rId2"/>
          <a:stretch/>
        </p:blipFill>
        <p:spPr>
          <a:xfrm>
            <a:off x="2208240" y="2597040"/>
            <a:ext cx="885960" cy="8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3" descr=""/>
          <p:cNvPicPr/>
          <p:nvPr/>
        </p:nvPicPr>
        <p:blipFill>
          <a:blip r:embed="rId3"/>
          <a:stretch/>
        </p:blipFill>
        <p:spPr>
          <a:xfrm>
            <a:off x="63360" y="20160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7"/>
          <p:cNvSpPr/>
          <p:nvPr/>
        </p:nvSpPr>
        <p:spPr>
          <a:xfrm>
            <a:off x="3594240" y="2532240"/>
            <a:ext cx="514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石油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油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行了大规模的推广应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由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1028880" y="1793880"/>
            <a:ext cx="2565360" cy="3857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3" descr=""/>
          <p:cNvPicPr/>
          <p:nvPr/>
        </p:nvPicPr>
        <p:blipFill>
          <a:blip r:embed="rId2"/>
          <a:stretch/>
        </p:blipFill>
        <p:spPr>
          <a:xfrm>
            <a:off x="63360" y="36828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7"/>
          <p:cNvSpPr/>
          <p:nvPr/>
        </p:nvSpPr>
        <p:spPr>
          <a:xfrm>
            <a:off x="5083920" y="1852560"/>
            <a:ext cx="24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集成分子及大分子材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会议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IMME-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2765520" y="1852560"/>
            <a:ext cx="198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名称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宣读论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C:\Users\Paralife\Downloads\1305556563_Microphone.png"/>
          <p:cNvPicPr/>
          <p:nvPr/>
        </p:nvPicPr>
        <p:blipFill>
          <a:blip r:embed="rId1"/>
          <a:srcRect l="20145" t="0" r="20780" b="0"/>
          <a:stretch/>
        </p:blipFill>
        <p:spPr>
          <a:xfrm>
            <a:off x="1633680" y="2797200"/>
            <a:ext cx="1404720" cy="2379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7"/>
          <p:cNvSpPr/>
          <p:nvPr/>
        </p:nvSpPr>
        <p:spPr>
          <a:xfrm>
            <a:off x="3481560" y="2673360"/>
            <a:ext cx="34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，即将回校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9"/>
          <p:cNvSpPr/>
          <p:nvPr/>
        </p:nvSpPr>
        <p:spPr>
          <a:xfrm>
            <a:off x="3481560" y="1623960"/>
            <a:ext cx="38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拿大 蒙特利尔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图片 11" descr=""/>
          <p:cNvPicPr/>
          <p:nvPr/>
        </p:nvPicPr>
        <p:blipFill>
          <a:blip r:embed="rId1"/>
          <a:stretch/>
        </p:blipFill>
        <p:spPr>
          <a:xfrm>
            <a:off x="1598760" y="4462560"/>
            <a:ext cx="1557360" cy="8557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3" descr=""/>
          <p:cNvPicPr/>
          <p:nvPr/>
        </p:nvPicPr>
        <p:blipFill>
          <a:blip r:embed="rId2"/>
          <a:stretch/>
        </p:blipFill>
        <p:spPr>
          <a:xfrm>
            <a:off x="1263600" y="1712880"/>
            <a:ext cx="1976400" cy="806400"/>
          </a:xfrm>
          <a:prstGeom prst="rect">
            <a:avLst/>
          </a:prstGeom>
          <a:ln w="0">
            <a:noFill/>
          </a:ln>
        </p:spPr>
      </p:pic>
      <p:sp>
        <p:nvSpPr>
          <p:cNvPr id="134" name="矩形 15"/>
          <p:cNvSpPr/>
          <p:nvPr/>
        </p:nvSpPr>
        <p:spPr>
          <a:xfrm>
            <a:off x="3481560" y="4309920"/>
            <a:ext cx="282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国 蒙彼利埃第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17"/>
          <p:cNvSpPr/>
          <p:nvPr/>
        </p:nvSpPr>
        <p:spPr>
          <a:xfrm>
            <a:off x="3481560" y="5326200"/>
            <a:ext cx="3369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1601640" y="1781280"/>
            <a:ext cx="5774040" cy="38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5740560" y="5003640"/>
            <a:ext cx="2987640" cy="920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4961520" y="5764320"/>
            <a:ext cx="38840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方正粗宋简体"/>
                <a:ea typeface="方正粗宋简体"/>
                <a:hlinkClick r:id="rId3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2060"/>
                </a:solidFill>
                <a:latin typeface="方正粗宋简体"/>
                <a:ea typeface="方正粗宋简体"/>
              </a:rPr>
              <a:t>新浪微博：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方正粗宋简体"/>
                <a:ea typeface="方正粗宋简体"/>
                <a:hlinkClick r:id="rId4"/>
              </a:rPr>
              <a:t>@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8:48:18Z</dcterms:created>
  <dc:creator>Paralife</dc:creator>
  <dc:description/>
  <dc:language>en-US</dc:language>
  <cp:lastModifiedBy>LIU Tao</cp:lastModifiedBy>
  <dcterms:modified xsi:type="dcterms:W3CDTF">2011-12-04T09:37:49Z</dcterms:modified>
  <cp:revision>68</cp:revision>
  <dc:subject/>
  <dc:title>范晓东</dc:title>
</cp:coreProperties>
</file>